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149-082A-4086-85E1-DCAD79A9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21B-167F-4B7D-B928-3C04B253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134-4203-4848-8861-BF477F7A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525-A03B-43D8-9B65-D894E2A6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B97-78C0-4409-B5B5-48A8CBA9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0F4-9ED0-4328-A548-ACD40908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0EF-D322-49DD-8C48-177FB4F5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112-C900-439B-B9FD-D7C8B782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CEB-8EB7-4242-B127-E81A0D7E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59F-2195-4544-8DEC-A473431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2B6-982C-4E31-AF55-B8A5E43F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6D8-B18F-4C8C-B2CD-FF006C7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F9BA-9841-47A0-9463-EECC4037E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2120" y="2361960"/>
            <a:ext cx="53337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12" descr="C:\Users\dwilliams2\AppData\Local\Microsoft\Windows\Temporary Internet Files\Content.IE5\WGVGCCAF\MC900438103[1].wmf"/>
          <p:cNvPicPr/>
          <p:nvPr/>
        </p:nvPicPr>
        <p:blipFill>
          <a:blip r:embed="rId1"/>
          <a:stretch/>
        </p:blipFill>
        <p:spPr>
          <a:xfrm>
            <a:off x="0" y="0"/>
            <a:ext cx="6858000" cy="189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C:\Users\dwilliams2\AppData\Local\Microsoft\Windows\Temporary Internet Files\Content.IE5\ES5BI6NL\MP900407518[1].jpg"/>
          <p:cNvPicPr/>
          <p:nvPr/>
        </p:nvPicPr>
        <p:blipFill>
          <a:blip r:embed="rId2"/>
          <a:stretch/>
        </p:blipFill>
        <p:spPr>
          <a:xfrm>
            <a:off x="0" y="6573960"/>
            <a:ext cx="6858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1:17:38Z</dcterms:created>
  <dc:creator>Deborah Williams</dc:creator>
  <dc:description/>
  <dc:language>en-US</dc:language>
  <cp:lastModifiedBy>Deborah Williams</cp:lastModifiedBy>
  <dcterms:modified xsi:type="dcterms:W3CDTF">2012-10-09T16:14:19Z</dcterms:modified>
  <cp:revision>3</cp:revision>
  <dc:subject/>
  <dc:title>PowerPoint Presentation</dc:title>
</cp:coreProperties>
</file>